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54C0-0D4F-49AA-AF5B-1A8B8AA8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F4B-7B62-4AF5-97EB-EB0CDE42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2A2-E9F2-4C6F-917F-1036C0B9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2CA6-699E-4504-9A01-6653A2EC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AFE0-84A4-45E9-B28F-4921072C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B4B-4C14-4804-8CCD-4451170C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F28D-A3DE-489D-84EB-C73C76BB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2E69-5F51-41B1-9533-4D1902D7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3E9-BBE4-496A-913A-2CF76DCA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179-9A21-45CB-99BC-344B3D6F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C251-741E-4F1E-8B35-D6049367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E920-1479-41E6-AFA1-A79F6C04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61D6-54D0-41F5-ABBF-BB05723CC120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0" y="333360"/>
            <a:ext cx="4465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Monotype Corsiva"/>
              </a:rPr>
              <a:t>Земя,като една човешка дла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Monotype Corsiva"/>
              </a:rPr>
              <a:t>но по-голяма ти не си ми нуж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Monotype Corsiva"/>
              </a:rPr>
              <a:t>Щастлив съм аз,че твойта кръв е юж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Monotype Corsiva"/>
              </a:rPr>
              <a:t>че е от кремък твоят стар Балкан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4762440" cy="3816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08720" y="2637000"/>
            <a:ext cx="3384360" cy="3887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65680" y="544032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аменни гъб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16000" y="155736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ом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08760" y="307800"/>
            <a:ext cx="28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Деветашката пещ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5373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03640" y="620640"/>
            <a:ext cx="4140360" cy="6048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8360" y="5373720"/>
            <a:ext cx="28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ещерата Дух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604360" y="1341360"/>
            <a:ext cx="358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Пещерата   Леде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4464000" cy="5238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435640" y="1052640"/>
            <a:ext cx="3166920" cy="3600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23840" y="42372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08200" y="42372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магу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48200" y="4816440"/>
            <a:ext cx="21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Орлова ч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66720" y="53928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неж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752720" cy="50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35120" y="5824440"/>
            <a:ext cx="31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3300"/>
                </a:solidFill>
                <a:latin typeface="Arial"/>
              </a:rPr>
              <a:t>Боянски водоп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284720" y="1341360"/>
            <a:ext cx="4859280" cy="5303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64000" y="549360"/>
            <a:ext cx="28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cc33"/>
                </a:solidFill>
                <a:latin typeface="Arial"/>
              </a:rPr>
              <a:t>скакав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3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06400" y="6154560"/>
            <a:ext cx="53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П е щ е р а т а  С ъ е в а   д у п к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580000" y="6165720"/>
            <a:ext cx="31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роходът Врат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19280" y="620640"/>
            <a:ext cx="568800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Земя,като една човешка дл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dddddd"/>
                </a:solidFill>
                <a:latin typeface="Monotype Corsiva"/>
              </a:rPr>
              <a:t>Но ти за мен си цяло мирозда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dddddd"/>
                </a:solidFill>
                <a:latin typeface="Monotype Corsiva"/>
              </a:rPr>
              <a:t>че аз те меря не на разтоя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dddddd"/>
                </a:solidFill>
                <a:latin typeface="Monotype Corsiva"/>
              </a:rPr>
              <a:t>а с обич, от която съм пия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4680000" cy="5184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591600" y="5950080"/>
            <a:ext cx="21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Байкушевата м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90880" y="6165720"/>
            <a:ext cx="21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айкушевата м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076720" y="765000"/>
            <a:ext cx="3456000" cy="5040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9852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ековен чин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52240" y="326880"/>
            <a:ext cx="24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660033"/>
                </a:solidFill>
                <a:latin typeface="Arial"/>
              </a:rPr>
              <a:t>Златните мост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0360" cy="3860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5080" y="2080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вито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03640" y="3068640"/>
            <a:ext cx="5940360" cy="3789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494880" y="32846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транд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002000" y="27936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и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10360" y="27936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р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37236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52560" y="3510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родо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508360" y="333360"/>
            <a:ext cx="30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Белоградчишки ск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08720" y="587700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Чудните мост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6:30:10Z</dcterms:created>
  <dc:creator>harry7</dc:creator>
  <dc:description/>
  <dc:language>en-US</dc:language>
  <cp:lastModifiedBy>harry7</cp:lastModifiedBy>
  <dcterms:modified xsi:type="dcterms:W3CDTF">2008-02-03T18:28:06Z</dcterms:modified>
  <cp:revision>18</cp:revision>
  <dc:subject/>
  <dc:title>Slide 1</dc:title>
</cp:coreProperties>
</file>